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9058-8EC4-419B-81B7-27192A8E7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FD0A-8C2A-49F9-8A65-99E4784A4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F7D2-1BBF-479B-977C-BFD042131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1C4-54D9-4235-8CA2-47C1448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384-CE46-4E52-97D2-CE66506B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8F6-E08A-4AA6-A34E-32BB647E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8FD-FDE3-4CD1-A644-5B52CBEB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B08-EB2F-47E3-B608-7CA94DD1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DFC-24C7-41CB-808B-0DBD1235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8BA-9699-41D8-BF1B-7EDE002D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DFB-EF17-4DF0-BFF8-FC9FA2FA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201-3D5F-461E-9847-828886C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5B4-1391-41C2-A576-EA83188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5EA-E122-4BA1-B52A-F93C057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360-A359-4A74-9406-92568FE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4665-6AA1-44BF-BB82-0F943631F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Routers-Cisco 3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394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A/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WIC-2A_S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WIC-2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B-S/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WIC-4B-S_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ES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WIC-4ESW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WIC-4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WIC-4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WIC-4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8A/S-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WIC-8A_S-232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ADSLI-B/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WIC-ADSLI-B_S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-1A-OC3-P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NM-1A-OC3-POM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E-WAE-502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NME-WAE-502-K9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SM-Blank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D-ES2-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M-D-ES2-48.emf"/>
          <p:cNvPicPr/>
          <p:nvPr/>
        </p:nvPicPr>
        <p:blipFill>
          <a:blip r:embed="rId1"/>
          <a:stretch/>
        </p:blipFill>
        <p:spPr>
          <a:xfrm>
            <a:off x="4102200" y="3559320"/>
            <a:ext cx="9396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ES3-24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SM-ES3-24P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NM-ADP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SM-NM-ADPTR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SRE-900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SM-SRE-900-K9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IC2-4FX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VIC2-4FXO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WIC2-1MFT-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VWIC2-1MFT-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392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392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392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392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94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394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394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7T17:46:37Z</dcterms:modified>
  <cp:revision>5</cp:revision>
  <dc:subject/>
  <dc:title>Title Slide</dc:title>
</cp:coreProperties>
</file>